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30275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17600" y="685440"/>
            <a:ext cx="2422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9651B340-2003-4070-A012-AC450103460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8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CF17407D-7A99-400A-B6D2-0DE4C3890B9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A46-3AB9-4EF0-B05F-4590B823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192484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99960"/>
            <a:ext cx="192484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0FA-BAAE-45B0-BC56-26B57B7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320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B87-528C-4250-B12D-BBD1D3A4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8000" y="706392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6080" y="706392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9996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8000" y="1749996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6080" y="17499960"/>
            <a:ext cx="619776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6A6-43CF-49CA-9EBE-04E10742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63920"/>
            <a:ext cx="19248480" cy="19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74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31A-0A6E-466C-9030-13F1342A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1924848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345-0208-49FD-8B26-EF85E4D0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D4F-32E3-4F31-9B42-8A43720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6D8-A54C-4042-857A-D611658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2840"/>
            <a:ext cx="19248480" cy="2338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74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47A-7D64-46DD-A381-72D519E7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F3D-25E1-4253-8EFE-A58D513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3200" y="1749996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0AE-591A-4DBA-B4A6-F9DCF49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3200" y="7063920"/>
            <a:ext cx="939312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99960"/>
            <a:ext cx="19248480" cy="95302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517-6879-4F2F-869C-562229C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48480" cy="50450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63920"/>
            <a:ext cx="19248480" cy="19980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106640" indent="-1106640">
              <a:spcBef>
                <a:spcPts val="2574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1" marL="2397240" indent="-922320">
              <a:spcBef>
                <a:spcPts val="2574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2" marL="3689280" indent="-736560">
              <a:spcBef>
                <a:spcPts val="2574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3" marL="5165640" indent="-736560">
              <a:spcBef>
                <a:spcPts val="2574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4" marL="6642000" indent="-736560">
              <a:spcBef>
                <a:spcPts val="2574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5" marL="6642000" indent="-736560">
              <a:spcBef>
                <a:spcPts val="2574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  <a:p>
            <a:pPr lvl="6" marL="6642000" indent="-736560">
              <a:spcBef>
                <a:spcPts val="2574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8060560"/>
            <a:ext cx="4989600" cy="1611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3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8060560"/>
            <a:ext cx="6773760" cy="1611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8800" y="28060560"/>
            <a:ext cx="4989600" cy="16113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de-DE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0CE9D9E2-29A6-4CEB-90B1-59A002CC4F05}" type="slidenum">
              <a:rPr b="0" lang="de-DE" sz="3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ld 9" descr="MINT-Slam_Plakat_Studentinnen_mitRand.jpg"/>
          <p:cNvPicPr/>
          <p:nvPr/>
        </p:nvPicPr>
        <p:blipFill>
          <a:blip r:embed="rId1"/>
          <a:stretch/>
        </p:blipFill>
        <p:spPr>
          <a:xfrm>
            <a:off x="1440" y="0"/>
            <a:ext cx="21385440" cy="30275280"/>
          </a:xfrm>
          <a:prstGeom prst="rect">
            <a:avLst/>
          </a:prstGeom>
          <a:ln w="0">
            <a:noFill/>
          </a:ln>
        </p:spPr>
      </p:pic>
      <p:sp>
        <p:nvSpPr>
          <p:cNvPr id="49" name="Textfeld 2"/>
          <p:cNvSpPr/>
          <p:nvPr/>
        </p:nvSpPr>
        <p:spPr>
          <a:xfrm>
            <a:off x="12971520" y="19992960"/>
            <a:ext cx="808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10000" spc="-1" strike="noStrike">
                <a:solidFill>
                  <a:srgbClr val="999a98"/>
                </a:solidFill>
                <a:latin typeface="Arial Black"/>
                <a:ea typeface="Arial Black"/>
              </a:rPr>
              <a:t>00.00.2010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4"/>
          <p:cNvSpPr/>
          <p:nvPr/>
        </p:nvSpPr>
        <p:spPr>
          <a:xfrm>
            <a:off x="13079520" y="21551760"/>
            <a:ext cx="6584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de-DE" sz="5800" spc="-1" strike="noStrike">
                <a:solidFill>
                  <a:srgbClr val="999a98"/>
                </a:solidFill>
                <a:latin typeface="Arial"/>
                <a:ea typeface="Arial"/>
              </a:rPr>
              <a:t>um xx:xx Uhr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5"/>
          <p:cNvSpPr/>
          <p:nvPr/>
        </p:nvSpPr>
        <p:spPr>
          <a:xfrm>
            <a:off x="9178920" y="23374440"/>
            <a:ext cx="1037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10000" spc="-1" strike="noStrike">
                <a:solidFill>
                  <a:srgbClr val="ffffff"/>
                </a:solidFill>
                <a:latin typeface="Arial Black"/>
                <a:ea typeface="Arial Black"/>
              </a:rPr>
              <a:t>Veranstaltung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6"/>
          <p:cNvSpPr/>
          <p:nvPr/>
        </p:nvSpPr>
        <p:spPr>
          <a:xfrm>
            <a:off x="10701360" y="25042680"/>
            <a:ext cx="80931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Gebäu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Raum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eck 7"/>
          <p:cNvSpPr/>
          <p:nvPr/>
        </p:nvSpPr>
        <p:spPr>
          <a:xfrm>
            <a:off x="1306440" y="26827200"/>
            <a:ext cx="5114880" cy="2382840"/>
          </a:xfrm>
          <a:prstGeom prst="rect">
            <a:avLst/>
          </a:prstGeom>
          <a:solidFill>
            <a:srgbClr val="4f81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5800" spc="-1" strike="noStrike">
                <a:solidFill>
                  <a:srgbClr val="ffffff"/>
                </a:solidFill>
                <a:latin typeface="Arial"/>
              </a:rPr>
              <a:t>Platz für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de-DE" sz="5800" spc="-1" strike="noStrike">
                <a:solidFill>
                  <a:srgbClr val="ffffff"/>
                </a:solidFill>
                <a:latin typeface="Arial"/>
              </a:rPr>
              <a:t>ihr Logo!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3:04:07Z</dcterms:created>
  <dc:creator>Christina Weiss</dc:creator>
  <dc:description/>
  <dc:language>en-US</dc:language>
  <cp:lastModifiedBy>haaf</cp:lastModifiedBy>
  <cp:lastPrinted>2012-12-12T10:16:24Z</cp:lastPrinted>
  <dcterms:modified xsi:type="dcterms:W3CDTF">2013-03-13T12:34:07Z</dcterms:modified>
  <cp:revision>8</cp:revision>
  <dc:subject/>
  <dc:title>Folie 1</dc:title>
</cp:coreProperties>
</file>