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8388" cy="30275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17600" y="685440"/>
            <a:ext cx="2422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C84EA309-BFA5-41A8-84FE-859FB936F5B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8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5D6EE0C5-AF91-487F-A647-1FB1AFA0AB1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90C-9F10-4CDE-A880-5A53B3A5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1924848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99960"/>
            <a:ext cx="1924848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2FA-5972-4119-B5DB-4788CDE1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9996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3200" y="1749996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D7D-71AF-49E8-B22F-A743778C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8000" y="706392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6080" y="706392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9996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8000" y="1749996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6080" y="1749996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6A1-958D-42AC-9F4A-B512E544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63920"/>
            <a:ext cx="19248480" cy="19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74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6EA-8161-45A0-A388-E252A1DE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1924848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EA2-0CF2-4285-A6C5-E57B7188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2CF-B95C-4376-B2F5-DB01E4D5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778-65F4-4691-BF7C-EA8E28C6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2840"/>
            <a:ext cx="19248480" cy="2338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74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534-C451-4B53-B69F-5944DA95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9996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EFB-34F6-44AF-B51C-50188CBD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3200" y="1749996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626-9AA0-428C-BACD-C423E81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99960"/>
            <a:ext cx="1924848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1F2-B022-454D-8B66-4BBB38EB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63920"/>
            <a:ext cx="1924848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marL="1106640" indent="-1106640">
              <a:spcBef>
                <a:spcPts val="2574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1" marL="2397240" indent="-922320">
              <a:spcBef>
                <a:spcPts val="2574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2" marL="3689280" indent="-736560">
              <a:spcBef>
                <a:spcPts val="2574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3" marL="5165640" indent="-736560">
              <a:spcBef>
                <a:spcPts val="2574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4" marL="6642000" indent="-736560">
              <a:spcBef>
                <a:spcPts val="2574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5" marL="6642000" indent="-736560">
              <a:spcBef>
                <a:spcPts val="2574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6" marL="6642000" indent="-736560">
              <a:spcBef>
                <a:spcPts val="2574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8060560"/>
            <a:ext cx="4989600" cy="1611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de-DE" sz="3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3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28060560"/>
            <a:ext cx="6773760" cy="1611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8800" y="28060560"/>
            <a:ext cx="4989600" cy="1611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de-DE" sz="3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F5FD1408-C838-4AA0-AE14-DEBEA8C5F2B0}" type="slidenum">
              <a:rPr b="0" lang="de-DE" sz="3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ild 9" descr="MINT-Slam_Plakat_Fuehrungskraefte_mitRand.jpg"/>
          <p:cNvPicPr/>
          <p:nvPr/>
        </p:nvPicPr>
        <p:blipFill>
          <a:blip r:embed="rId1"/>
          <a:stretch/>
        </p:blipFill>
        <p:spPr>
          <a:xfrm>
            <a:off x="1440" y="0"/>
            <a:ext cx="21385440" cy="30275280"/>
          </a:xfrm>
          <a:prstGeom prst="rect">
            <a:avLst/>
          </a:prstGeom>
          <a:ln w="0">
            <a:noFill/>
          </a:ln>
        </p:spPr>
      </p:pic>
      <p:sp>
        <p:nvSpPr>
          <p:cNvPr id="49" name="Textfeld 2"/>
          <p:cNvSpPr/>
          <p:nvPr/>
        </p:nvSpPr>
        <p:spPr>
          <a:xfrm>
            <a:off x="708120" y="19992960"/>
            <a:ext cx="808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10000" spc="-1" strike="noStrike">
                <a:solidFill>
                  <a:srgbClr val="999a98"/>
                </a:solidFill>
                <a:latin typeface="Arial Black"/>
                <a:ea typeface="Arial Black"/>
              </a:rPr>
              <a:t>00.00.2010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4"/>
          <p:cNvSpPr/>
          <p:nvPr/>
        </p:nvSpPr>
        <p:spPr>
          <a:xfrm>
            <a:off x="816120" y="21551760"/>
            <a:ext cx="6584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de-DE" sz="5800" spc="-1" strike="noStrike">
                <a:solidFill>
                  <a:srgbClr val="999a98"/>
                </a:solidFill>
                <a:latin typeface="Arial"/>
                <a:ea typeface="Arial"/>
              </a:rPr>
              <a:t>um xx:xx Uhr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5"/>
          <p:cNvSpPr/>
          <p:nvPr/>
        </p:nvSpPr>
        <p:spPr>
          <a:xfrm>
            <a:off x="2449440" y="23374440"/>
            <a:ext cx="10375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10000" spc="-1" strike="noStrike">
                <a:solidFill>
                  <a:srgbClr val="ffffff"/>
                </a:solidFill>
                <a:latin typeface="Arial Black"/>
                <a:ea typeface="Arial Black"/>
              </a:rPr>
              <a:t>Veranstaltung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6"/>
          <p:cNvSpPr/>
          <p:nvPr/>
        </p:nvSpPr>
        <p:spPr>
          <a:xfrm>
            <a:off x="3753000" y="25042680"/>
            <a:ext cx="8092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Gebäu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Raum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hteck 7"/>
          <p:cNvSpPr/>
          <p:nvPr/>
        </p:nvSpPr>
        <p:spPr>
          <a:xfrm>
            <a:off x="15238440" y="26827200"/>
            <a:ext cx="5116320" cy="2382840"/>
          </a:xfrm>
          <a:prstGeom prst="rect">
            <a:avLst/>
          </a:prstGeom>
          <a:solidFill>
            <a:srgbClr val="4f81b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5800" spc="-1" strike="noStrike">
                <a:solidFill>
                  <a:srgbClr val="ffffff"/>
                </a:solidFill>
                <a:latin typeface="Arial"/>
              </a:rPr>
              <a:t>Platz für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5800" spc="-1" strike="noStrike">
                <a:solidFill>
                  <a:srgbClr val="ffffff"/>
                </a:solidFill>
                <a:latin typeface="Arial"/>
              </a:rPr>
              <a:t>ihr Logo!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3:09:53Z</dcterms:created>
  <dc:creator>Christina Weiss</dc:creator>
  <dc:description/>
  <dc:language>en-US</dc:language>
  <cp:lastModifiedBy>haaf</cp:lastModifiedBy>
  <dcterms:modified xsi:type="dcterms:W3CDTF">2013-03-13T12:41:54Z</dcterms:modified>
  <cp:revision>9</cp:revision>
  <dc:subject/>
  <dc:title>Folie 1</dc:title>
</cp:coreProperties>
</file>